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5AA3-972D-4A43-A280-33AB24E59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AABD-A936-46EB-87C7-2A1A6B3CA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A5AC-1025-4890-A5F4-B490FFCAA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3550-CE38-4105-BA0A-8D717534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3CD-FF8C-46CB-B4BD-F8977C4D2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457B-3054-4FF9-B349-5D6E26463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6AE1-E6AB-4414-AB92-0CBED199B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915B-E917-4E40-A0C5-FD0A4AC2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D39A-B84A-4B63-BB13-84D962D8B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7FFC-FC79-49AC-84DF-8AB4CD871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6215-F6EA-4180-941F-9E6D5D81D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6AFE-2275-4B02-A810-44389906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8758-6436-48FE-B043-4AD0BCBBF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DB1A-0196-4178-BA56-138D160AF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1DFD-144E-45BB-92D1-69DD3937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98F0-B011-40DC-B829-821A17F4B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9336-5C30-478F-83A2-8A36FB289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0803-0E7D-4FD7-ACA8-2576DB99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E020-E321-4CA1-87C1-47EFFA0F3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C7EB-EC32-4CB4-A72C-51A7367B1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2616-6214-4C0E-8C4D-52A71D81A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58E4-283F-47BA-9B45-572F4D3A5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7AD2-E319-47EC-B6EC-EC2E41B3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81AC-E9CC-4A38-BE68-9F6684476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23DF-525C-4928-B867-5DC5D8B8F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3856-F734-4BBD-843E-2777D1140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0930-A74E-469E-85B7-692AF1A8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1BCB-8D05-4E77-A631-15948082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76CB-1D08-408F-832F-349D01BF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A0FF-9C79-4A89-9517-907A81CE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2906-635E-484A-AFE6-7D4019AB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0E16-3CDB-489F-9A43-5625F320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D780-4B5B-41E9-96F8-15676F80F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54C3-E0A7-47C3-A49D-A6108AEB0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9C84-3ED2-4F57-B85D-6E3A46D3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A3D7-AB77-4DF7-B41B-A4874BADF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356F-7A32-4B82-A3D8-2AE1298EA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E18-499C-4FF1-85C6-797E8AA0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EC6B-41AD-4F9C-9496-F00A01F2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6AF2-65FA-4C53-BD10-2FFC3F75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101-1E23-43A5-93CB-85C3CC40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56C-D521-4745-BAD2-F9244C58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2C9-B3C2-4293-A605-1FDC6360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64D-26FA-4A88-ACDE-A37977DC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B79-D6A8-4019-8108-319B67C5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0DF-EBF9-42E1-B831-8E0C4B9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D46-3141-4152-8676-5245D44D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461-0081-40A9-855F-C4AE4CAD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429-9A5F-4FE9-A2B9-E40DE450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0DB-C4A5-49B0-830B-3AB6A1B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154-CE05-4E68-BC97-B155F02C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58F-14FE-4892-9BC6-83C58A33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CA3D-90FA-494F-8E2A-FBC321A3C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05D0-B333-4EE1-87BD-158849C87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Arial"/>
              </a:rPr>
              <a:t>Компликација локалне анестезије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4060800"/>
            <a:ext cx="810576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Предавање бр. 10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еуспех у постизању анестезије, Компликације локалног каракте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мпликације општег карактера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Arial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Arial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886680" y="6180120"/>
            <a:ext cx="71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81A3-2E56-4970-914B-1F52A39A9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01480" y="1690560"/>
            <a:ext cx="83170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0000"/>
                </a:solidFill>
                <a:uFillTx/>
                <a:latin typeface="Arial"/>
              </a:rPr>
              <a:t>Локалне компликације у току извођења ан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Бол у току извођења ан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бежна је појава јер се анестезија постиже инјек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ђутим овај бол може да се интезивира у појединим ситуација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чито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вредности ткива и анест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читост температуре ткива и анест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стензија ткива  код брзог убризгавања анест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а технички неисправних игала (дужи постанестезиони бо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периостално убризгавање анесте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4470-33D0-4ABC-8711-496ECFE1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73120" y="1579680"/>
            <a:ext cx="8140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овреда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бежна је компликација једне од најчешће примењиваних техника анестезије – мандибуларне (унутрашњи птеригоидн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:\Users\Zoran\Downloads\anestezija\IMG_7552.JPG"/>
          <p:cNvPicPr/>
          <p:nvPr/>
        </p:nvPicPr>
        <p:blipFill>
          <a:blip r:embed="rId1"/>
          <a:srcRect l="5455" t="7876" r="7943" b="3328"/>
          <a:stretch/>
        </p:blipFill>
        <p:spPr>
          <a:xfrm>
            <a:off x="2003400" y="3043080"/>
            <a:ext cx="4948200" cy="33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C992-D2FD-4A69-AAF1-14D7A797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14440" y="1841400"/>
            <a:ext cx="814068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овреда крвног с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бежна је компликација која се може десити код неких спроводних анестезија јер нерве прате одговарајући крвни суд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нски крвни судови се чешће повређују од артеријских, јер артерије имају чвршћи зид и еластичније су од в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 крвног суда се дијагностикује аспир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ом случају, иглу треба повући мало у назад, или јој мало променити смер, па тек онда апликовати анестетички раств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илна техника анестезије и континуирано убризгавање анестетика у многоме помаже избегавању ове ком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25A1-E6A4-4FFB-B9B0-A70BA0FE1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01480" y="1754280"/>
            <a:ext cx="8141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овреда не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 се дешава приликом извођења спроводних анестезија, поготову оних техника када врхом игле треба ући у коштани канал у коме се налази неуроваскуларни сн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аквој ситуацији, анестетик се може апликовати и ендонеура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 нерва се манифестује изненадним, веома јаким болом у дистрибуцији одговарајућег нер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, карактеристичан је готово тренутни настанак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97A4-F030-4F8D-94BB-68D805F79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563400" y="1515960"/>
            <a:ext cx="81043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раваскуларна апликација ане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раво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решк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 не компликацију у правом смислу те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пирација је обавезна приликом апликације локалног анестетичког раствора. Дакле, раствор се може апликовати у крвни суд само ако изостане овај тест, што представља пропуст у р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C:\Users\Zoran\Downloads\anestezija\imagesCA84BLJL.jpg"/>
          <p:cNvPicPr/>
          <p:nvPr/>
        </p:nvPicPr>
        <p:blipFill>
          <a:blip r:embed="rId1"/>
          <a:stretch/>
        </p:blipFill>
        <p:spPr>
          <a:xfrm>
            <a:off x="2900520" y="3933720"/>
            <a:ext cx="331596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FB07-5EB2-4EDD-BFD2-BEB58EAF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463680" y="1654200"/>
            <a:ext cx="820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 неуспеха анестезије, овај пропуст носи и ризик настанка токсичних реакција. (убризгавање адренал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2" descr="C:\Users\Zoran\Downloads\anestezija\IMG_7549.JPG"/>
          <p:cNvPicPr/>
          <p:nvPr/>
        </p:nvPicPr>
        <p:blipFill>
          <a:blip r:embed="rId1"/>
          <a:srcRect l="5326" t="151" r="14208" b="0"/>
          <a:stretch/>
        </p:blipFill>
        <p:spPr>
          <a:xfrm>
            <a:off x="2116080" y="2417760"/>
            <a:ext cx="48751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C948-9DFC-4BEC-9952-566B4CA51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38120" y="1628640"/>
            <a:ext cx="84232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фекат локалног анестетичког раствора на суседне нер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ликом извођења различитих техника локалне анестезије, ефекат локалног анестетичког раствора се може испољити и на другим нервима, што се манифестује на различите начине, зависно од нерва који је захваћ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оку мандибуларне анестезије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 facialis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. auriculotempor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оку спроводне анестезије језичног живца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ordae tympan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D9FB-BE79-4FB3-95AA-E2E475761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Неке ређе компликације код извођења локал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76280" y="18669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релом иг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C:\Users\Zoran\Downloads\anestezija\imagesCATCLXWZ.jpg"/>
          <p:cNvPicPr/>
          <p:nvPr/>
        </p:nvPicPr>
        <p:blipFill>
          <a:blip r:embed="rId1"/>
          <a:stretch/>
        </p:blipFill>
        <p:spPr>
          <a:xfrm>
            <a:off x="1812960" y="2556000"/>
            <a:ext cx="544824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FD03-A3BD-410D-951E-FA28734B8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Неке ређе компликације код извођења локал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476280" y="1778040"/>
            <a:ext cx="81295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спирација или гутање иг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 да се десе само приликом примене класичних бризгалица ако се у току неке интраоралне технике (анестезија на непцу) игла одвоји од бизгалице и падне на јез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 може да буде изузетно тешка комплик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КАРПУЛ БРИЗГАЛИЦ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2F8B-579A-426A-ACED-0DE4BD062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Неке ређе компликације код извођења локал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76120" y="2543040"/>
            <a:ext cx="886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пликација погрешног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ромене на слузокожи након примене локалне ан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Бледило ткива и појава анемичних зо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C78E-DC3D-42A4-96E8-9C471CD96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локал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501480" y="1836720"/>
            <a:ext cx="812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ч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мплика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означава нежељени догађај или ситуацију, која отежава или продужава неку интервенцију или представља евентуалну сметњу за пациј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:\Users\Zoran\Pictures\imagesCAUEOZS7.jpg"/>
          <p:cNvPicPr/>
          <p:nvPr/>
        </p:nvPicPr>
        <p:blipFill>
          <a:blip r:embed="rId1"/>
          <a:stretch/>
        </p:blipFill>
        <p:spPr>
          <a:xfrm>
            <a:off x="2368440" y="3127320"/>
            <a:ext cx="456732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0060-BCBE-4686-B53A-F8A103940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63680" y="1452600"/>
            <a:ext cx="82296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0000"/>
                </a:solidFill>
                <a:uFillTx/>
                <a:latin typeface="Arial"/>
              </a:rPr>
              <a:t>Локалне компликације у постанестезион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станестезиони бол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 као последица трауматског оштећења ткива на месту убризгав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и су најчешће последица или неисправног прибора или неадекватне технике 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C:\Users\Zoran\Downloads\anestezija\imagesCA0JV46R.jpg"/>
          <p:cNvPicPr/>
          <p:nvPr/>
        </p:nvPicPr>
        <p:blipFill>
          <a:blip r:embed="rId1"/>
          <a:srcRect l="8641" t="4452" r="6778" b="13085"/>
          <a:stretch/>
        </p:blipFill>
        <p:spPr>
          <a:xfrm>
            <a:off x="4379760" y="4048200"/>
            <a:ext cx="22003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8A33-750F-45F1-88ED-BD0C69ED4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38200" y="1816200"/>
            <a:ext cx="81043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станестезиони триз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као последица повреде мишића у току анестезир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суство изливене крви у мишићу приликом повреде може да има иритативни ефекат и да доведе до тризм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нестезиони тризмус се карактерише болом при  покушају пацијента да отвори уста и ограниченошћу овог покрета, односно немогућношћу да у потпуности отвори у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ференцијална дијагноза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8185-31A6-4E38-BF2F-5F8119FA6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88880" y="171612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м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C:\Users\Zoran\Downloads\anestezija\imagesCAH9I2MY.jpg"/>
          <p:cNvPicPr/>
          <p:nvPr/>
        </p:nvPicPr>
        <p:blipFill>
          <a:blip r:embed="rId1"/>
          <a:stretch/>
        </p:blipFill>
        <p:spPr>
          <a:xfrm>
            <a:off x="496800" y="2449440"/>
            <a:ext cx="5918400" cy="388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6607080" y="2692440"/>
            <a:ext cx="23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Обавезно ординирати антибиоти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0BCA-A5DF-44E3-8822-31E145437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76280" y="1741320"/>
            <a:ext cx="81421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станестезиона парест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и продужена анестезија, могу да буду последице повреде нерва приликом извођења локалне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зитет и испољеност парестезије првенствено зависе од степена оштећ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 се жали на утрнулост, жарење, пецкање, свраб, а понекад може да настане и поремећај функције говора и гут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ерапији се примењује комплекс Б витамина и локална апликација топ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80EC-17A8-46AF-9713-F88B12F7B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463680" y="162864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Некроза после ан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C:\Users\Zoran\Downloads\anestezija\imagesCAZX0IU6.jpg"/>
          <p:cNvPicPr/>
          <p:nvPr/>
        </p:nvPicPr>
        <p:blipFill>
          <a:blip r:embed="rId1"/>
          <a:srcRect l="0" t="3032" r="1665" b="0"/>
          <a:stretch/>
        </p:blipFill>
        <p:spPr>
          <a:xfrm>
            <a:off x="309600" y="2805120"/>
            <a:ext cx="3986280" cy="2584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C:\Users\Zoran\Downloads\anestezija\imagesCAO0TECZ.jpg"/>
          <p:cNvPicPr/>
          <p:nvPr/>
        </p:nvPicPr>
        <p:blipFill>
          <a:blip r:embed="rId2"/>
          <a:stretch/>
        </p:blipFill>
        <p:spPr>
          <a:xfrm>
            <a:off x="4878360" y="2820960"/>
            <a:ext cx="38941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F3F4-E3FC-4279-B23B-EFAA4F33D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476280" y="1552680"/>
            <a:ext cx="81532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 примене локалне анестезије веома је ретка пој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лавном,  могла би да настане коришћењем нестерилног прибора, што је данас практично немогућ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ђутим, она може да настане и у случају да се игла нехотице контаминира пре или у току извођења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ођење игле кроз инфламирано ткиво у дубље пределе, такође, може потпомоћи пропагацију инф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олико се код истог пацијента изводи интрапериодонтална анестезија, а након тога се планира нека спроводна анестезија игла се мора промени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5704-41A0-4C2A-B6B5-0A1238BB0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463680" y="1654200"/>
            <a:ext cx="816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рауматско самоповређивање анестезираног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C:\Users\Zoran\Downloads\anestezija\c.jpg"/>
          <p:cNvPicPr/>
          <p:nvPr/>
        </p:nvPicPr>
        <p:blipFill>
          <a:blip r:embed="rId1"/>
          <a:srcRect l="4205" t="9796" r="8812" b="7068"/>
          <a:stretch/>
        </p:blipFill>
        <p:spPr>
          <a:xfrm>
            <a:off x="380880" y="2384280"/>
            <a:ext cx="3944880" cy="3770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" descr=""/>
          <p:cNvPicPr/>
          <p:nvPr/>
        </p:nvPicPr>
        <p:blipFill>
          <a:blip r:embed="rId2"/>
          <a:stretch/>
        </p:blipFill>
        <p:spPr>
          <a:xfrm>
            <a:off x="4465800" y="2384280"/>
            <a:ext cx="454968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21D-012C-4363-A37E-9F4E33C98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Компликације општег карактер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63680" y="1967040"/>
            <a:ext cx="8129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жељене реакције које се манифестују системски, дакле на целом организму, а настају у току или непосредно после извођења локалне анестезије,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следице изазване поступком примене анест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следице утицаја анестетичког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E4E5-BA77-450B-BF86-FE5C9FBCB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следице изазване поступком приме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476280" y="201600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но инјекционог поступка, последица су страха од инјекције, односно убода иг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ноге особе имају страх од стоматолошких интервенција уопште, а посебно од примене локалне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Тај страх може узроковати активацију одређених структура вегетативног нервног система, а следствене промене се манифестују као </a:t>
            </a:r>
            <a:r>
              <a:rPr b="0" lang="sr-CS" sz="2000" spc="-1" strike="noStrike" u="sng">
                <a:solidFill>
                  <a:srgbClr val="ff0000"/>
                </a:solidFill>
                <a:uFillTx/>
                <a:latin typeface="Arial"/>
              </a:rPr>
              <a:t>психогене реакције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или као </a:t>
            </a:r>
            <a:r>
              <a:rPr b="0" lang="sr-CS" sz="2000" spc="-1" strike="noStrike" u="sng">
                <a:solidFill>
                  <a:srgbClr val="ff0000"/>
                </a:solidFill>
                <a:uFillTx/>
                <a:latin typeface="Arial"/>
              </a:rPr>
              <a:t>вазовагалне реакције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, које се могу завршити синкопом (губитком свест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9C48-9F1E-4A66-A139-527A56030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следице изазване поступком приме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76280" y="1690560"/>
            <a:ext cx="8129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Психоге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 стање може се клинички манифестовати: узнемиреношћу, знојењем, тахикардијом или појавом палпит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ерапији психогених реакција довољно је охрабрити пацијента и објаснити му неопходност извођења локалне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олико овај поступак не доведе до жељеног ефекта, треба размотрити одлагање интервенције и евентуалну примену седације или опште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062E-0AFE-4E91-BEC4-310349B54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локал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488880" y="2016000"/>
            <a:ext cx="8078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кви догађаји – компликације – могу бити </a:t>
            </a:r>
            <a:r>
              <a:rPr b="0" i="1" lang="sr-CS" sz="2000" spc="-1" strike="noStrike">
                <a:solidFill>
                  <a:srgbClr val="ff0000"/>
                </a:solidFill>
                <a:latin typeface="Arial"/>
              </a:rPr>
              <a:t>очекивани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0000"/>
                </a:solidFill>
                <a:latin typeface="Arial"/>
              </a:rPr>
              <a:t>неочекивани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је у питању поступак локалне анестезије, компликације су по правилу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неочекива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су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очекива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као на пример бол или пареза мимичних мишића после извршене инфраорбиталне анестезије, о томе увек треба обавестити пациј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D17C-186D-43A2-A7A4-9E077C5A9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следице изазване поступком приме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438120" y="1628640"/>
            <a:ext cx="83804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Вазовагална реакција – син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Синкопа је реверзибилни губитак свести који може бити крајња последица вазовагалне реа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азовагална реакцијаје, заправо, наставак психогених реак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 се нагло, најчешће почиње осећајем мучнине и малаксалости,бледилом коже, хладним знојењем, успореним пулсом, и престанком реаговања на спољашње надража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зам настанка почива на страху од стоматолошке интервенције, који првенствено активира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н.вагус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изазивајући дилатацију крвних судова унутрашњих органа. Због редистрибуције циркулишуће крви у организму, узрокује се пад крвног притиска и брадикард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6BC7-798D-470F-8ABB-868162952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следице изазване поступком приме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450720" y="1716120"/>
            <a:ext cx="819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Последица ових промена јесте појава губитка свести (синкоп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која настаје због исхемије централног нервног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 који седи у стоматолошкој столици није у могућности да дође у хоризонталан положај, те не треба дозволити да се време исхемије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НС прекомерно проду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Одмах поставити столицу са пацијентом у положај тако да ноге пацијента буду мало изнад равни његове гла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а спољашних надражаја којима се стимулише симпатички нервни систем, додатно, убрзава повратак пацијента у свесно с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3EF5-343F-461A-8615-FB3C936A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Последице утицаја анестетичког раствор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225360" y="2128680"/>
            <a:ext cx="8918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сичне реакције (зависе од количине и концентрације примењеног раствора, као и од брзине његове елимин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ергијске реакције (не зависе од поменутих фактора већ настају искључиво због специфичног реаговања имуног система организ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следице утицаја анестетичког раствор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0" y="653400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618A-138B-4484-8539-E044A0B72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476280" y="1565280"/>
            <a:ext cx="8153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Токсич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 примене лидокаина, на пример, регистровани су нивои анестетика у плазми 0,22-0,84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/м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се има у виду да се токсичне дозе могу појавити када су плазма- нивои овог анестетика изнад 5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/мл схватљиво је зашто су појаве токсичних реакција ре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ући да се токсичне реакције јављају због предозирања, оне се могу испољити, само на два основна састојка ових раство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локални анестети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вазоконстрикто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4587-1E7B-47AB-8B51-BA5C0674F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Токсичне реакције на анестетик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476280" y="1790640"/>
            <a:ext cx="819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лучујући су следећи чиниоци: степен токсичности анестетика, његова фармакокинетичка својства, узраст пацијента и присуство општих обољ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опште говорећи, токсична реакција анестетика огледа се депресивним деловањем на кардиоваскуларни систем и ЦН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атологија: конфузно стање, пад крвног притиска, дисање је ослабљено, успорено и плит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 постаје коматозан , појава тонично клоничних грчева и појаву конвулз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2B11-229B-4253-B750-550028DB8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Токсичне реакције на анестетик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476280" y="1728720"/>
            <a:ext cx="8142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а поставити у лежећи положа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ити додатну оксигенацију преко ма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случају конвулзија (дијазепам 10мг интравенск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сигенација до нормалне функције д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случају пада крвног притиска, применити вазопресоре (фенилфер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нспорт пацијента у специјализовану устано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Токсичне реакције на вазоконстриктор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C029-6379-4C95-B8DF-F68AABA8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514440" y="1941480"/>
            <a:ext cx="83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тно су чешће, будући да се у организму континуирано синтетишу одређене количине ендогених катехоламина које се вишеструко повећавају у случајевима емоционалног стр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егзогено уношење норадреналина посебно бурно могу да реагују особе које се лече трицикличним антидепреси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 ових пацијената реакције се манифестују наглим и енормним скоком крвног прит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жељене реакције на дејство вазоконстриктора испољавају се у виду – палпитација ,тахикардија, аритмија, главобоља (пораст кп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тоглавица и притиска у пределу гла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B469-EA34-4CEC-8A2A-032E14F69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Алергијске реакц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88880" y="1741320"/>
            <a:ext cx="8116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Су последица специфичног реаговања имуног система организма на уношење страних супстанција на које је организам претходно сензибилис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 реакције су засноване на сложеним механизмима реакција антиген-антитело, када се стварају велике количине хистамина, а клиничке манифестације зависе од типа реакције.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умљиво је да и локални анестетици као сва друга фармаколошка средства, могу изазвати алергијску реак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ергија се јавља на стабилизаторе у анестетичким раствор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метилпарабен и натријум-метабисулфи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F902-588C-4A2C-8C14-0CA4B510B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Алергијске реак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476280" y="1803240"/>
            <a:ext cx="8667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локалне анестетике се могу манифестовати као: кожне реа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онхоспазам, ангионеуротски едем или као системска анафилактичка реак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жне промене су најблажи облик алергијске реакције, бронхоспазам је тежи облик алергијске манифестације, а системска анафилактичка реакција представља најтежи облик алергијске реак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C:\Users\Zoran\Downloads\anestezija\ae.bmp"/>
          <p:cNvPicPr/>
          <p:nvPr/>
        </p:nvPicPr>
        <p:blipFill>
          <a:blip r:embed="rId1"/>
          <a:stretch/>
        </p:blipFill>
        <p:spPr>
          <a:xfrm>
            <a:off x="2509920" y="4114800"/>
            <a:ext cx="41860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A2CB-FE90-4B60-B918-5A018F6AE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Алергијске реак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88880" y="1603440"/>
            <a:ext cx="81295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Симптоматологија системске анафилактичк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ни симптоми, уколико се не развије ангиоедем, веома су слични вазовагалној реакцији али без губитка св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и се жале на мучнину, повраћање, немирни су, осећају трњење у пределу лица и руку и жале се на општу слабост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 се запажа бледило лица, хладан зној, диспнеа, упадљив пад крвног притиска, слаба пуњеност пулса и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тахикард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што води даљем развоју кардијалног погорш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F75D-23B3-40C2-A2C1-0148AA90F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локалн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501480" y="1854360"/>
            <a:ext cx="8217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икације се могу манифестов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амом месту извођења поступка или у његовој непосредној околини 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окалне компли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се промене манифестују системски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пште компли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C18F-D8A4-43D8-A4D3-2EB133D19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Алергијске реакц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47628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очетку, може да се јави ангионеуротски едем (очни капци, усне, језик, лице и ждрело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C:\Users\Zoran\Downloads\anestezija\....bmp"/>
          <p:cNvPicPr/>
          <p:nvPr/>
        </p:nvPicPr>
        <p:blipFill>
          <a:blip r:embed="rId1"/>
          <a:stretch/>
        </p:blipFill>
        <p:spPr>
          <a:xfrm>
            <a:off x="147600" y="3036960"/>
            <a:ext cx="3498840" cy="2411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C:\Users\Zoran\Downloads\anestezija\.-.jpg"/>
          <p:cNvPicPr/>
          <p:nvPr/>
        </p:nvPicPr>
        <p:blipFill>
          <a:blip r:embed="rId2"/>
          <a:stretch/>
        </p:blipFill>
        <p:spPr>
          <a:xfrm>
            <a:off x="3798720" y="2962440"/>
            <a:ext cx="2097360" cy="2485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C:\Users\Zoran\Downloads\anestezija\p.bmp"/>
          <p:cNvPicPr/>
          <p:nvPr/>
        </p:nvPicPr>
        <p:blipFill>
          <a:blip r:embed="rId3"/>
          <a:stretch/>
        </p:blipFill>
        <p:spPr>
          <a:xfrm>
            <a:off x="6048360" y="3036960"/>
            <a:ext cx="297972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4BAF-13F5-4181-BBC3-75A36FE70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7360" y="1598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Алергијске реакц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6" name="Picture 10" descr="C:\Users\Zoran\Downloads\anestezija\imagesCA63WYMS.jpg"/>
          <p:cNvPicPr/>
          <p:nvPr/>
        </p:nvPicPr>
        <p:blipFill>
          <a:blip r:embed="rId1"/>
          <a:stretch/>
        </p:blipFill>
        <p:spPr>
          <a:xfrm>
            <a:off x="712800" y="2217600"/>
            <a:ext cx="3448080" cy="331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" descr="C:\Users\Zoran\Downloads\anestezija\imagesCAYIQYAU.jpg"/>
          <p:cNvPicPr/>
          <p:nvPr/>
        </p:nvPicPr>
        <p:blipFill>
          <a:blip r:embed="rId2"/>
          <a:stretch/>
        </p:blipFill>
        <p:spPr>
          <a:xfrm>
            <a:off x="5433840" y="2263680"/>
            <a:ext cx="312444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A1C7-2AC9-4BA7-BE2E-B2D2145BB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Алергијске реакц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476280" y="1665360"/>
            <a:ext cx="81421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 најтежег облика алергијске реакције присутна су сва три симптомна: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ангиоеде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бронхоспаза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изразита хипотензиј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вљање пацијента у хоризонтални положај и проходност дисајног п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а лекова за нормализацију кардиоваскуларног система и крвног притиска (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симпатомиметиц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смањење едема и екстравазације течности (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кортикостероид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побољшање респирације (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окисигенотерап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и спречавање везивања накнадно створеног хистамина (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антихистаминиц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D28B-C163-4E15-9151-CA32F72C0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Алергијске реак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488880" y="1778040"/>
            <a:ext cx="8140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Адреналин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0,5 мл раствора 1:1000 (половина ампуле). Ако не дође до побољшања, доза се понавља после 5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Кортикостероиди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rypan, Urbason Dexason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250мг (једна ампула). Ако не дође до повлачења отока одмах дозу поновити до четири пута у размацима 3-5 мин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Оксигена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ко маске 5-6 литара/мин све до губитка цијано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Антихистаминици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20-40 мг (1-2 ампуле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pen, Phenerg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 интервенције код пацијената са регистрованим алергијским статусом, примена антихистаминика је пожељ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Неуспех у постизању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9B62-7694-4B3B-BC93-C7719B75E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412920" y="2028960"/>
            <a:ext cx="8103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ако се не сматра компликацијом у ужем смислу те речи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успех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остизању адекватне анестезије је нежељени исход извршеног посту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спех локалне анестезије се може десити из различитих разлога, а најчешће због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пропуста приликом извођења анестезиј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повећане ексцитабилности нервних завршета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о, 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анатомске варијације појединих топографских детаљ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рфологије вилица могу бити узрок не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Неуспех у постизању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0" y="649440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1277-1CB0-4781-956F-9D1452B6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09760" y="1677960"/>
            <a:ext cx="809280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Неправилна техника анест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пуст приликом примене жељене тех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грешно место апл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бризгавање анестетика интраваскула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поновање анестетика интрамускула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укозно убризгавање анест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поновање анестетика изнад с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 компа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49D9-B4B5-40D1-BE13-24E0EFDF5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Неуспех у постизању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14440" y="1941480"/>
            <a:ext cx="812808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Повећана ексцитабилност нервних заврше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на ексцитабилност нервних завршетака очекивана је приликом примене локалне анестезије у инфламираном подруч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 овога смањена је дисоцијација анестетика што додатно фаворизује неуспех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 акутно запаљење пародонцијума повећава ексцитабилност ових нервних завршетака, што доприноси мањој ефикасности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C5B7-ACDE-48A3-B3C4-8B1450CC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Неуспех у постизању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88880" y="1766880"/>
            <a:ext cx="82551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Анатомске варијације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ома ретко анатомске варијације утичу на ефикасност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ад анатомскке варијације после неких ортогнатских захвата раније изведених на пацијенту, могу представљати проблем приликом избора приликом избора места апликације локалног анесте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 пацијената са дивергентним рамусима мандибуле место апликације није исто код извођења мандибуларне анестез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54FF-D6C1-4276-8973-F5E95EA68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Локалне компликац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01480" y="2166840"/>
            <a:ext cx="8166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Локалне компликације су нежељени догађаји који су последица примене локалне анестезије, а манифестују се на месту извођења локалне анестезије или у његовој непосредној окол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е компликације могу да се десе у току извођења локалне анестезије или у постанестезионом периоду, дакле пошто престане ефекат локалне анестез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1-30T13:04:20Z</dcterms:modified>
  <cp:revision>661</cp:revision>
  <dc:subject/>
  <dc:title>      NAZIV PREDAVANJA</dc:title>
</cp:coreProperties>
</file>